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956A-B5C4-4427-A9EC-54D5507F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598-869D-4838-83A5-0B9A9962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B59-2537-412D-AF50-4B8E3E89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428-46EA-4AB9-906F-2074EBD4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00C-271E-427B-B12E-227AA8C1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7660-AB94-4A71-8DF2-4A8C8DFE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FB5-C8ED-4C2D-A88A-F20EDAA6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021-B587-4252-BB76-E47BBE30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B0E-C349-42B3-BFEF-8DC3EEDB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D36-D97E-4EE1-8C49-35951991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23C-EF75-4797-9A02-B663A8C7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C97-005F-45B7-8370-47313ADC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2875-24CF-42C3-B98F-F281680EE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google.rs/url?sa=i&amp;rct=j&amp;q=&amp;esrc=s&amp;frm=1&amp;source=images&amp;cd=&amp;cad=rja&amp;docid=CU0UCIL9hBQarM&amp;tbnid=ZKM0t4sfDQnXAM:&amp;ved=0CAUQjRw&amp;url=http://classroom.sdmesa.edu/eschmid/Chapter8-Zoo145.htm&amp;ei=OetmUp-xL6LH0QWC5YHoDg&amp;bvm=bv.55123115,d.ZG4&amp;psig=AFQjCNH700_s7NoVz3LDRj6oU5yYNGmK5w&amp;ust=1382562939490944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84000" y="551664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оф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. др Владимир Живк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116800" y="1197000"/>
            <a:ext cx="48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стоматоло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-396720" y="2708280"/>
            <a:ext cx="9540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ИОМЕХАНИЧКЕ</a:t>
            </a:r>
            <a:r>
              <a:rPr b="1" lang="sr-Latn-R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РАКТЕРИСТИК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ЛОКОМОТОРНОГ СИСТЕМА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3524760" y="1773360"/>
            <a:ext cx="22197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ЕДМ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ИО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. НЕДЕЉА НАСТА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Е ЗГЛО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осни зглоб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изне површине двоосних (биаксијалних) зглобова имају најчешће елипсоидан или седласт обл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rcRect l="24731" t="61757" r="61373" b="20640"/>
          <a:stretch/>
        </p:blipFill>
        <p:spPr>
          <a:xfrm>
            <a:off x="4427640" y="3789360"/>
            <a:ext cx="3624120" cy="259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rcRect l="24731" t="42938" r="61373" b="37736"/>
          <a:stretch/>
        </p:blipFill>
        <p:spPr>
          <a:xfrm>
            <a:off x="611280" y="3789360"/>
            <a:ext cx="3313080" cy="2600280"/>
          </a:xfrm>
          <a:prstGeom prst="rect">
            <a:avLst/>
          </a:prstGeom>
          <a:ln w="0">
            <a:noFill/>
          </a:ln>
        </p:spPr>
      </p:pic>
      <p:cxnSp>
        <p:nvCxnSpPr>
          <p:cNvPr id="68" name="Straight Arrow Connector 7"/>
          <p:cNvCxnSpPr/>
          <p:nvPr/>
        </p:nvCxnSpPr>
        <p:spPr>
          <a:xfrm>
            <a:off x="1692000" y="2852640"/>
            <a:ext cx="216360" cy="72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10"/>
          <p:cNvCxnSpPr/>
          <p:nvPr/>
        </p:nvCxnSpPr>
        <p:spPr>
          <a:xfrm>
            <a:off x="3850920" y="2852640"/>
            <a:ext cx="1801080" cy="72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Е ЗГЛО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981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осни зглоб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лици осе X - X су удаљеније од клизних површина зглоба у односу на осе Y –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лучају елипсоидног зглоба обе осе се налазе с исте стране, а у случају седластог, с различитих страна закривљене површ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овим двема узајамно нормалним осама ротације ови зглобови се називају двоос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 елипсоидног зглоба је скочни (тј. тало-навикуларни) зглоб стопала, а за пример седластог зглоба може да се узме зглоб између прве метакарпалне кости и карпуса (корена шак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rcRect l="24731" t="61757" r="61373" b="20640"/>
          <a:stretch/>
        </p:blipFill>
        <p:spPr>
          <a:xfrm>
            <a:off x="4932360" y="4437000"/>
            <a:ext cx="3119400" cy="223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rcRect l="24731" t="42938" r="61373" b="37736"/>
          <a:stretch/>
        </p:blipFill>
        <p:spPr>
          <a:xfrm>
            <a:off x="1258920" y="4508640"/>
            <a:ext cx="273672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Е ЗГЛО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шеосни зглоб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Још већу слободу кретања имају вишеосни (кугласти) зглоб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Њихови окрајци имају сферичан обл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етање се зато може да врши око свих оса које пролазе кроз центар О такве кугле, па и око ос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 - Z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ја би одговарала уздужној оси кости чији окрајак улази у састав згл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rcRect l="21955" t="54754" r="58592" b="20640"/>
          <a:stretch/>
        </p:blipFill>
        <p:spPr>
          <a:xfrm>
            <a:off x="2627280" y="3933720"/>
            <a:ext cx="3730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Е ЗГЛО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шеосни зглоб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мер вишеосног зглоба је зглоб рамена или зглоб ку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глоб рамена омогућује ротацију хумеруса (горње кости руке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чак и око његове уздужне осе, што руци даје изуземо вели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кретљив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ко се при кретању зглоба пређу његове дозвоље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ранице слободе, долази до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ишчашења (луксације)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глоб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rcRect l="21955" t="54754" r="58592" b="20640"/>
          <a:stretch/>
        </p:blipFill>
        <p:spPr>
          <a:xfrm>
            <a:off x="2627280" y="3933720"/>
            <a:ext cx="3730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Механичке особине мишић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петост мишића и дијаграм истезања мишић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чин рада мишић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орме мишићне контрак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ханички модели мишић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стеми полуга у биомехани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петост мишић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052640"/>
            <a:ext cx="8928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апетост (тонус, напон) мишића - стање тензије која се континуирано одржава у мишић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ензија се одржава при минималним вредностима чак и када је мишић релаксиран -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мировни напон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ировни напон се може повећати пасивним истезањем мишић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ировни напон као клинички знак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пастицитет (прекомерна стимулација - оштећење пирамидалног пут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флацидност (оштећење периферних нерав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петост мишић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Активни напон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повећање напона у мишићу током контра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виси од дужине саркоме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8" descr="fig8"/>
          <p:cNvPicPr/>
          <p:nvPr/>
        </p:nvPicPr>
        <p:blipFill>
          <a:blip r:embed="rId1"/>
          <a:stretch/>
        </p:blipFill>
        <p:spPr>
          <a:xfrm>
            <a:off x="684360" y="3429000"/>
            <a:ext cx="4248000" cy="3213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5003640" y="4365720"/>
            <a:ext cx="37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sting 2.0-2.25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新細明體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m max. no. of cross bridges; max. 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2.25-3.6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新細明體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m no. of cross bridg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&lt; 1.65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新細明體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m overlap of actin no. of cross bridg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петост мишић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412640"/>
            <a:ext cx="46432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отални напон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укупни напон у мишићу током контрак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кључуј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актив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настаје са почетком контракције) 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пасив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пон (настаје након истезања мишића преко одређене дужин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44"/>
          <p:cNvGrpSpPr/>
          <p:nvPr/>
        </p:nvGrpSpPr>
        <p:grpSpPr>
          <a:xfrm>
            <a:off x="4643280" y="1197000"/>
            <a:ext cx="4249800" cy="2734920"/>
            <a:chOff x="4643280" y="1197000"/>
            <a:chExt cx="4249800" cy="2734920"/>
          </a:xfrm>
        </p:grpSpPr>
        <p:grpSp>
          <p:nvGrpSpPr>
            <p:cNvPr id="91" name="Group 40"/>
            <p:cNvGrpSpPr/>
            <p:nvPr/>
          </p:nvGrpSpPr>
          <p:grpSpPr>
            <a:xfrm>
              <a:off x="4643280" y="1197000"/>
              <a:ext cx="4249800" cy="2734920"/>
              <a:chOff x="4643280" y="1197000"/>
              <a:chExt cx="4249800" cy="2734920"/>
            </a:xfrm>
          </p:grpSpPr>
          <p:pic>
            <p:nvPicPr>
              <p:cNvPr id="92" name="Picture 5" descr="fig9"/>
              <p:cNvPicPr/>
              <p:nvPr/>
            </p:nvPicPr>
            <p:blipFill>
              <a:blip r:embed="rId1"/>
              <a:stretch/>
            </p:blipFill>
            <p:spPr>
              <a:xfrm>
                <a:off x="4643280" y="1197000"/>
                <a:ext cx="4249800" cy="259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Text Box 6"/>
              <p:cNvSpPr/>
              <p:nvPr/>
            </p:nvSpPr>
            <p:spPr>
              <a:xfrm>
                <a:off x="6283440" y="35262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新細明體"/>
                  </a:rPr>
                  <a:t>l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  <a:ea typeface="新細明體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7"/>
              <p:cNvSpPr/>
              <p:nvPr/>
            </p:nvSpPr>
            <p:spPr>
              <a:xfrm>
                <a:off x="6888600" y="2528280"/>
                <a:ext cx="393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新細明體"/>
                  </a:rPr>
                  <a:t>F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8"/>
              <p:cNvSpPr/>
              <p:nvPr/>
            </p:nvSpPr>
            <p:spPr>
              <a:xfrm>
                <a:off x="7990920" y="2088360"/>
                <a:ext cx="40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新細明體"/>
                  </a:rPr>
                  <a:t>F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  <a:ea typeface="新細明體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9"/>
            <p:cNvSpPr/>
            <p:nvPr/>
          </p:nvSpPr>
          <p:spPr>
            <a:xfrm>
              <a:off x="6345000" y="1636560"/>
              <a:ext cx="365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F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  <a:ea typeface="新細明體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38"/>
          <p:cNvSpPr/>
          <p:nvPr/>
        </p:nvSpPr>
        <p:spPr>
          <a:xfrm>
            <a:off x="1187280" y="6237360"/>
            <a:ext cx="748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под вољном контролом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стално присутан (пасивни нап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9"/>
          <p:cNvSpPr/>
          <p:nvPr/>
        </p:nvSpPr>
        <p:spPr>
          <a:xfrm>
            <a:off x="5537160" y="4784760"/>
            <a:ext cx="87480" cy="11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9"/>
          <p:cNvGrpSpPr/>
          <p:nvPr/>
        </p:nvGrpSpPr>
        <p:grpSpPr>
          <a:xfrm>
            <a:off x="6580440" y="4454640"/>
            <a:ext cx="348840" cy="223200"/>
            <a:chOff x="6580440" y="4454640"/>
            <a:chExt cx="348840" cy="223200"/>
          </a:xfrm>
        </p:grpSpPr>
        <p:sp>
          <p:nvSpPr>
            <p:cNvPr id="100" name="Line 20"/>
            <p:cNvSpPr/>
            <p:nvPr/>
          </p:nvSpPr>
          <p:spPr>
            <a:xfrm>
              <a:off x="6929280" y="4454640"/>
              <a:ext cx="0" cy="22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21"/>
            <p:cNvSpPr/>
            <p:nvPr/>
          </p:nvSpPr>
          <p:spPr>
            <a:xfrm flipH="1">
              <a:off x="6580440" y="4454640"/>
              <a:ext cx="34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 flipH="1">
              <a:off x="6580440" y="4677840"/>
              <a:ext cx="34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Line 24"/>
          <p:cNvSpPr/>
          <p:nvPr/>
        </p:nvSpPr>
        <p:spPr>
          <a:xfrm>
            <a:off x="6937200" y="4559400"/>
            <a:ext cx="34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5"/>
          <p:cNvSpPr/>
          <p:nvPr/>
        </p:nvSpPr>
        <p:spPr>
          <a:xfrm>
            <a:off x="7286760" y="4559400"/>
            <a:ext cx="0" cy="56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6"/>
          <p:cNvSpPr/>
          <p:nvPr/>
        </p:nvSpPr>
        <p:spPr>
          <a:xfrm>
            <a:off x="5799240" y="5122800"/>
            <a:ext cx="35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7"/>
          <p:cNvSpPr/>
          <p:nvPr/>
        </p:nvSpPr>
        <p:spPr>
          <a:xfrm flipH="1">
            <a:off x="6936840" y="5122800"/>
            <a:ext cx="349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8"/>
          <p:cNvSpPr/>
          <p:nvPr/>
        </p:nvSpPr>
        <p:spPr>
          <a:xfrm>
            <a:off x="6153120" y="5005440"/>
            <a:ext cx="787320" cy="320760"/>
          </a:xfrm>
          <a:custGeom>
            <a:avLst/>
            <a:gdLst>
              <a:gd name="textAreaLeft" fmla="*/ 0 w 787320"/>
              <a:gd name="textAreaRight" fmla="*/ 787680 w 78732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409" h="129">
                <a:moveTo>
                  <a:pt x="0" y="48"/>
                </a:moveTo>
                <a:lnTo>
                  <a:pt x="33" y="0"/>
                </a:lnTo>
                <a:lnTo>
                  <a:pt x="76" y="115"/>
                </a:lnTo>
                <a:lnTo>
                  <a:pt x="132" y="6"/>
                </a:lnTo>
                <a:lnTo>
                  <a:pt x="183" y="126"/>
                </a:lnTo>
                <a:lnTo>
                  <a:pt x="232" y="9"/>
                </a:lnTo>
                <a:lnTo>
                  <a:pt x="283" y="123"/>
                </a:lnTo>
                <a:lnTo>
                  <a:pt x="328" y="9"/>
                </a:lnTo>
                <a:lnTo>
                  <a:pt x="381" y="129"/>
                </a:lnTo>
                <a:lnTo>
                  <a:pt x="409" y="4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1"/>
          <p:cNvSpPr/>
          <p:nvPr/>
        </p:nvSpPr>
        <p:spPr>
          <a:xfrm>
            <a:off x="7548480" y="485136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7"/>
          <p:cNvSpPr/>
          <p:nvPr/>
        </p:nvSpPr>
        <p:spPr>
          <a:xfrm>
            <a:off x="6878520" y="46800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5796000" y="4559400"/>
            <a:ext cx="0" cy="56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5796000" y="4559400"/>
            <a:ext cx="35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8"/>
          <p:cNvGrpSpPr/>
          <p:nvPr/>
        </p:nvGrpSpPr>
        <p:grpSpPr>
          <a:xfrm>
            <a:off x="6146640" y="4446720"/>
            <a:ext cx="349200" cy="223200"/>
            <a:chOff x="6146640" y="4446720"/>
            <a:chExt cx="349200" cy="223200"/>
          </a:xfrm>
        </p:grpSpPr>
        <p:sp>
          <p:nvSpPr>
            <p:cNvPr id="113" name="Line 14"/>
            <p:cNvSpPr/>
            <p:nvPr/>
          </p:nvSpPr>
          <p:spPr>
            <a:xfrm>
              <a:off x="6146640" y="4446720"/>
              <a:ext cx="0" cy="22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5"/>
            <p:cNvSpPr/>
            <p:nvPr/>
          </p:nvSpPr>
          <p:spPr>
            <a:xfrm>
              <a:off x="6146640" y="4446720"/>
              <a:ext cx="3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6"/>
            <p:cNvSpPr/>
            <p:nvPr/>
          </p:nvSpPr>
          <p:spPr>
            <a:xfrm>
              <a:off x="6146640" y="4669920"/>
              <a:ext cx="3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Line 23"/>
          <p:cNvSpPr/>
          <p:nvPr/>
        </p:nvSpPr>
        <p:spPr>
          <a:xfrm>
            <a:off x="6234120" y="4559400"/>
            <a:ext cx="6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9"/>
          <p:cNvSpPr/>
          <p:nvPr/>
        </p:nvSpPr>
        <p:spPr>
          <a:xfrm>
            <a:off x="7283520" y="4856040"/>
            <a:ext cx="17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9"/>
          <p:cNvSpPr/>
          <p:nvPr/>
        </p:nvSpPr>
        <p:spPr>
          <a:xfrm>
            <a:off x="7458120" y="4794120"/>
            <a:ext cx="87120" cy="11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2"/>
          <p:cNvSpPr/>
          <p:nvPr/>
        </p:nvSpPr>
        <p:spPr>
          <a:xfrm>
            <a:off x="5580000" y="4941720"/>
            <a:ext cx="0" cy="78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3"/>
          <p:cNvSpPr/>
          <p:nvPr/>
        </p:nvSpPr>
        <p:spPr>
          <a:xfrm>
            <a:off x="7504200" y="4941720"/>
            <a:ext cx="0" cy="78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4"/>
          <p:cNvSpPr/>
          <p:nvPr/>
        </p:nvSpPr>
        <p:spPr>
          <a:xfrm>
            <a:off x="5594400" y="5427720"/>
            <a:ext cx="1881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5"/>
          <p:cNvSpPr/>
          <p:nvPr/>
        </p:nvSpPr>
        <p:spPr>
          <a:xfrm>
            <a:off x="6477840" y="5435640"/>
            <a:ext cx="304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6879240" y="4159080"/>
            <a:ext cx="317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8"/>
          <p:cNvSpPr/>
          <p:nvPr/>
        </p:nvSpPr>
        <p:spPr>
          <a:xfrm>
            <a:off x="7565760" y="4375080"/>
            <a:ext cx="317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F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新細明體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2"/>
          <p:cNvSpPr/>
          <p:nvPr/>
        </p:nvSpPr>
        <p:spPr>
          <a:xfrm>
            <a:off x="5624640" y="4836960"/>
            <a:ext cx="17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тензитет мишићног делов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опходно дефинисањ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физиолошког пресека мишић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иолошки пресек мишића се дефиниш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висно од форме самог миш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вретенасте мишиће физиолошки пресек се мери на њиховом најширем делу, нормално на мишићна влакна (тј. нормално на његову осу) и представља површину оваквог прес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нзитет мишићног деловањ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је сила коју испољава јединична површина физиолошког пресека максимално контрахованог мишића и изражава се у јединицама прити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вај интензитет за све мишиће варира од 0,6 до 1,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P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у просеку износ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Pa, тј. 1 MN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нтензитет мишићног делова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пример, ако је максимални дијаметар бицепса спортисте 6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физиолошки пресек овог мишића изно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укупни интензитет мишићног деловања у просеку износ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ма својим физиолошким могућностима бицепс би могао да подигне тег од прек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80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rcRect l="6945" t="45891" r="56927" b="47219"/>
          <a:stretch/>
        </p:blipFill>
        <p:spPr>
          <a:xfrm>
            <a:off x="1835280" y="3789360"/>
            <a:ext cx="4681440" cy="503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rcRect l="6945" t="25221" r="73601" b="67894"/>
          <a:stretch/>
        </p:blipFill>
        <p:spPr>
          <a:xfrm>
            <a:off x="2771640" y="2421000"/>
            <a:ext cx="2521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Ув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Биомеханик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је област биофизике која изучава механичка својства и законе кретања живих систе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Биомеханик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је механика живих систе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биомеханици се посебно изучавају следеће област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медицинска биомеханик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испитује кинетику и динамику здравог и болесног човека и механичка својства његових органа и ткива с циљем да се целовитије сагледају и реше неки проблеми у ортопедији, трауматологији, хирургији, неурохирургији и другим областима медиц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техничка биомеханик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испитује биомеханичке системе у циљу решавања одређених проблема у техници (нпр. конструкција електронских помагала, израде нових материјала итд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орме мишићне контра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79280" y="1052640"/>
            <a:ext cx="87138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Моторна једини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деф.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сва мишићна влакна инервисана појединачним моторним нервним влак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мали мишић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реагују брзо и прецизно) имају мали број мишићних влакана у моторној једин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велики мишић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реагују споро и мање прецизно) имају велики број мишићних влакана у моторној једин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http://www.t-nation.com/img/photos/06-144-training/image006.png"/>
          <p:cNvPicPr/>
          <p:nvPr/>
        </p:nvPicPr>
        <p:blipFill>
          <a:blip r:embed="rId1"/>
          <a:stretch/>
        </p:blipFill>
        <p:spPr>
          <a:xfrm>
            <a:off x="2340000" y="3753000"/>
            <a:ext cx="3753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орме мишићне контра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836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Сумација мишићних контракциј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деф.) – придруживање појединачних контракција у циљу повећања интензитета контракциј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просторна сума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укључивање већег броја моторних јединица - А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временска сума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повећање фреквенце стимулације - 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http://classconnection.s3.amazonaws.com/811/flashcards/141811/jpg/motorunit21332783881903.jpg"/>
          <p:cNvPicPr/>
          <p:nvPr/>
        </p:nvPicPr>
        <p:blipFill>
          <a:blip r:embed="rId1"/>
          <a:stretch/>
        </p:blipFill>
        <p:spPr>
          <a:xfrm>
            <a:off x="0" y="4100400"/>
            <a:ext cx="4008600" cy="2757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classroom.sdmesa.edu/eschmid/images/Chapte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40280" y="4076640"/>
            <a:ext cx="5103720" cy="27813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-7560" y="4076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3989520" y="407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орме мишићне контра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5003640" y="1484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9280" y="1052640"/>
            <a:ext cx="8280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зометричка мишићна контрак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оптерећење је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супрамаксимал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мења се напон миш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дужина остаје непромењ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пасивни напон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се (пре контракције -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 повећава са истезањем, при чему се углавном истежу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паралелни еластични елементи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ји се углавном налазе изван контрактилног елемента (тетиве, сарколем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активни напон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се (током контракције - 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 повећава услед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скраћивања саркомер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, али и (додатно)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истезањем серијских еластичних елемената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ји леже у серији са контрактилним елементом (тетиве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врши се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унутрашњи, а не спољашњи р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4365720"/>
            <a:ext cx="5867280" cy="23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5867280" y="4365720"/>
            <a:ext cx="3276720" cy="23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орме мишићне контра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197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зотоничка мишићна контрак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оптерећење је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субмаксимал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мења се дужина мишић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напон остаје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приближно!!!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непромењ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активни напон пре скраћења дужине мишић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изометричка фаза изотоничке контракциј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 се повећава услед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скраћивања саркомер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, али и 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истезањем серијских еластичних елемената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ји леже у серији са контрактилним елементом (тетиве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након тога долази до скраћивања дужине мишића (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фаза скраћивања у изотоничкој контракциј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 услед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даљег скраћивања саркомер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,  као и због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скупљања (претходно) истегнутих серијских еластичних елеме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врши се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и спољашњи и унутрашњи р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4581360"/>
            <a:ext cx="5724360" cy="22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695920" y="4581360"/>
            <a:ext cx="3448080" cy="22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Форме мишићне контрак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456000" cy="35276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4"/>
          <p:cNvSpPr/>
          <p:nvPr/>
        </p:nvSpPr>
        <p:spPr>
          <a:xfrm>
            <a:off x="468360" y="2276640"/>
            <a:ext cx="4956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онцентричне контрак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скраће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ишића при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његовој контрак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мер: подизање те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Ексцентричне контрак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издужењ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ишића при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контракцији антагонистичких мишић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мер: спуштање те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Динамички елементи локомоторног система - полу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341000"/>
            <a:ext cx="8229600" cy="62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ишићи у организму делују преко коштаних полу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ишићи једним делом својих влакана производе притисак на зглоб, а другим делом производе кретањ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ласификација полуг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ма броју елемена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осте (са једном тачком ослонца и две нападне сил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ложене (систем полуга - две или више простих полуг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ма коефицијенту прено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луге силе (све полуге друге врст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луге брзине (све полуге треће врст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Динамички елементи локомоторног система - полу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3600720" cy="38163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7"/>
          <p:cNvSpPr/>
          <p:nvPr/>
        </p:nvSpPr>
        <p:spPr>
          <a:xfrm>
            <a:off x="468360" y="2060640"/>
            <a:ext cx="482436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олуге прве врс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вокрака полуг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слонац се налази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између нападних тачака си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је делују на полуг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гла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слонац се налази на почетку кичменог стуб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а једном крају делује сила мишића врата која повлачи главу уназа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а другом крају делује сила оптерећења која вуче главу напред (и на дол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363600" y="134136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е полу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Динамички елементи локомоторног система - полу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614680" cy="25210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138240" y="2205000"/>
            <a:ext cx="287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олуге друге врс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324000" y="299736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Једнокрака полуг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бе линије нападне силе се налазе са исте стране ослонца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ила оптерећења се налази ближе ослон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9"/>
          <p:cNvSpPr/>
          <p:nvPr/>
        </p:nvSpPr>
        <p:spPr>
          <a:xfrm>
            <a:off x="395280" y="4076640"/>
            <a:ext cx="61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стопало човека ослоњено само на пр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слонац се налази на прстим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лиже ослонцу делује сила оптерећењ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даље од ослонца делује активна сила мишића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 sole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Динамички елементи локомоторног система - полу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6300720" y="2781360"/>
            <a:ext cx="2648160" cy="26366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139320" y="2205000"/>
            <a:ext cx="289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олуге треће врс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395280" y="285264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Једнокрака полуг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бе линије нападне силе се налазе са исте стране ослонца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ктивна сила се налази ближе ослон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250920" y="3933720"/>
            <a:ext cx="61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подлактица савијена у лакту са оптерећењем у ша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лонац се налази у ла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ближе ослонцу делује активна сила мишића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 biseps brach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даље од ослонца делује сила оптерећ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Уво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биомеханици се посебно изучавају следеће обла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иомеханика спор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испитује механику мускулоскелетног система човека у циљу постизања бољих резултата у спорту и адекватног тестирања спортист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иомеханика рад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изграђује у склопу медицине рада научну базу за реализацију оптималних захтева радног места, као што је, на пример, конструкција пултова и постоља машина, извршавање радних задатака уз минимални замор ит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ЕЛЕМЕНТИ ЛОКОМОТОРНОГ СИСТ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Локомоторни систем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овека представља човеков зглобнокоштано- мишићни систем који му омогућује промену положаја у простору и све остале вољне механичке покре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вај систем садржи пасивни и активни де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Пасивни де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ине кости и зглобови, а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активн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келетни мишић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сти, зглобови и скелетни мишићи чине елементе локомоторног систе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ред спољних сила (пре свега гравитационе) на човеково тело делују и унутрашње сил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е су последица мишићних контракција и преносе се непосредно на кости скеле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бог тога се кости покоравају законима полуг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глобови повезују овакве полуге у систем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ГЛОБ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глоб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едставља спој две (или више) кости од којих је обично окрајак једне испупчен и назива се глава кости, а окрајак друге издубљен и представља чашиц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дела зглобова према покретљив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ма могућности и степену кретања костију које улазе у састав зглоба, зглобови могу да се поделе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кретне, полупокретне и непокрет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ЕЛА ЗГЛОБ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  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кретн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глобу између окрајака двеју суседних костију налази се зглобна шупљ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а је испуњена слузавом вискозном течношћу (синовијом) која подмазује зглобне површине смањујући тако трење између њ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глоб је обмотан зглобном чахуром која обухвата, поред окрајака костију, и део зглобних веза (лигамената), које учествују у реализацији чврстине згл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ред лигамената и чахуре зглобну чврстину обезбеђују и мишићи који га споља обухвата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врстина глоба и његова покретљивост стоје у обрнутој сразме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  Код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лупокретн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глобова кости су спојене међукоштаним везама или хрскавичавим котур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вако су, на пример, спојени суседни кичмени пршљен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помичн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зглобови нису од непосредног интреса за реализацију локомоторних 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ТАЦИЈЕ ЗГЛО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сом зглоб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разумева се линија око које све покретне тачке кости која ротира описују кружне лук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остаје непомична за време ротације к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о што је познато, поједини делови човековог тела не могу увек да врше сва могућа крет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оје у томе извесна ограничења, која су, пре свега, условљена, структуром окрајака у згло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име, пошто чашица и глава зглоба имају подударне површине, од њихове форме зависи карактер и степен ограничења кретања костију у згло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том се смислу покретни зглобови могу да поделе на једноосне, двоосне и вишеос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Е ЗГЛО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Једноосни зглоб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Једноосни (униаксијални, цилиндрични) зглобови су зглобови у облику шарке (на врати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ав је, на пример, зглоб лакта (хумеро-улнарни зглоб), зглоб колена, зглобови прстију ит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таквом зглобу једино могуће кретање представља ротација око једне о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24178" t="51801" r="54701" b="22613"/>
          <a:stretch/>
        </p:blipFill>
        <p:spPr>
          <a:xfrm>
            <a:off x="4572000" y="4581360"/>
            <a:ext cx="273672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Е ЗГЛО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Једноосни зглоб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лици је приказан упрошћен модел једноосног зглоба: окрајак једне кости је цилиндрично испупчен, док је чашица другог окрајка цилиндрично удубљ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вакав састав зглоба омогућује обртање његових окрајака само око једне осе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- X)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равни која је на њу нормал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24178" t="51801" r="54701" b="22613"/>
          <a:stretch/>
        </p:blipFill>
        <p:spPr>
          <a:xfrm>
            <a:off x="2700360" y="3933720"/>
            <a:ext cx="3959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6:32:31Z</dcterms:created>
  <dc:creator>Ivan Srejovic</dc:creator>
  <dc:description/>
  <dc:language>en-US</dc:language>
  <cp:lastModifiedBy>ХХХ</cp:lastModifiedBy>
  <dcterms:modified xsi:type="dcterms:W3CDTF">2020-09-28T12:29:02Z</dcterms:modified>
  <cp:revision>200</cp:revision>
  <dc:subject/>
  <dc:title>ФИЗИОЛОГИЈА КРВИ</dc:title>
</cp:coreProperties>
</file>